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CCF9-326E-4F99-BF37-75576EA8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6CDD-0AA5-4700-AF1E-E45BC914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95B9-4D2F-490A-9158-055016C34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28C8-0058-4003-A559-E75902754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4AC2-5B0E-4CF0-A114-9733816D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C142-0A51-4FC1-ABF4-6DED0E4B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6F09-D821-4828-AC3C-9982CD96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6B4E-785F-41B8-BC91-40CD0222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BEEE-D398-4512-957F-E63F5F55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7BC0-0DC9-4FC1-A574-0447BE72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E7A6-5209-48CC-8357-CDD89EFB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AE08-6829-41DF-B6F8-40756F14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7CF3-8721-41DF-9DCF-2139E30FD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Jupiter_Smyrna_Louvre_Ma13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Jupiter_Smyrna_Louvre_Ma13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amphalfbloodgossip.yolasite.com/olympus-chatroom.php" TargetMode="External"/><Relationship Id="rId2" Type="http://schemas.openxmlformats.org/officeDocument/2006/relationships/hyperlink" Target="http://en.wikipedia.org/wiki/Zeus" TargetMode="External"/><Relationship Id="rId3" Type="http://schemas.openxmlformats.org/officeDocument/2006/relationships/hyperlink" Target="http://www.dreamstime.com/aphrodite-goddess-of-love-thumb4082974.jpg" TargetMode="External"/><Relationship Id="rId4" Type="http://schemas.openxmlformats.org/officeDocument/2006/relationships/hyperlink" Target="http://wwwis.win.tue.nl/~hera/hera.png" TargetMode="External"/><Relationship Id="rId5" Type="http://schemas.openxmlformats.org/officeDocument/2006/relationships/hyperlink" Target="http://www.beazley.ox.ac.uk/dictionary/Dict/image/aresLIMC.jpg" TargetMode="External"/><Relationship Id="rId6" Type="http://schemas.openxmlformats.org/officeDocument/2006/relationships/hyperlink" Target="http://4.bp.blogspot.com/_FOIrYyQawGI/S1IorJk3oXI/AAAAAAAACiw/uZgBIEZ6HMA/s1600/Athena.jpg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ympic G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members: Clayton Donald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sabella Corve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: 12/15/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room: 6-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4573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lephant"/>
              </a:rPr>
              <a:t>The Greeks believed that most gods lived on Mount Olympus located in Northern Gree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lephant"/>
              </a:rPr>
              <a:t>They believed they were very much like huma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lephant"/>
              </a:rPr>
              <a:t>The gods had special pow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lephant"/>
              </a:rPr>
              <a:t>The Greek honored their gods and goddesses in many way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lephant"/>
              </a:rPr>
              <a:t>Every four years, the Greeks held an athlete contest to honor Zeus, the kind of Go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ympics God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eus, king of go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a, life of Zeus protector of families, children, and the h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s, god of w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hena, goddess of wisd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ollo, god of truth, intelligence, music, and poe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eidon, god of the sea and Zeus’ brot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hrodite, the goddess of love and beau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mes, The God of good luck and weal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des, god of the under world and Zeus’ second brot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The Jupiter de Smyrne, discovered in Smyrna in 1680[1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1676520"/>
            <a:ext cx="771480" cy="161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505320" y="4800600"/>
            <a:ext cx="1261800" cy="1438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553080" y="1905120"/>
            <a:ext cx="319320" cy="380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248520" y="2514600"/>
            <a:ext cx="1198440" cy="1523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7620120" y="4800600"/>
            <a:ext cx="1295280" cy="147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6248520" y="4724280"/>
            <a:ext cx="1218960" cy="1500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4884840" y="4800600"/>
            <a:ext cx="1181160" cy="1419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1828800" y="4724280"/>
            <a:ext cx="1312920" cy="1479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380880" y="4876920"/>
            <a:ext cx="965160" cy="1280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" y="624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6324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6324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phrod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6400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sei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6324480"/>
            <a:ext cx="12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248520" y="6400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0120" y="63244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h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48520" y="42670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Zeu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Zeus in Greek mythology is the king of gods, who oversaw the univer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He is the ruler of Mount Olymp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He is also the god of the sky and thun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He is the father of all go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The Jupiter de Smyrne, discovered in Smyrna in 1680[1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91320" y="2514600"/>
            <a:ext cx="19400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hrodite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hrodite is the goddess of love and beau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hrodite’s parents are Zeus and D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 husband was Hephaest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 rises from the foam of the s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 was the most beautiful of them al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324480" y="2438280"/>
            <a:ext cx="185760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ation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amphalfbloodgossip.yolasite.com/olympus-chatroom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wikipedia.org/wiki/Ze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reamstime.com/aphrodite-goddess-of-love-thumb4082974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is.win.tue.nl/~hera/hera.png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beazley.ox.ac.uk/dictionary/Dict/image/aresLIMC.jpg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4.bp.blogspot.com/_FOIrYyQawGI/S1IorJk3oXI/AAAAAAAACiw/uZgBIEZ6HMA/s1600/Athena.jpg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linsdomain.com/gods&amp;goddesses/pictures/apollo.jp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taxdollars.ocregister.com/files/2009/11/poseidon.jp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uky.edu/AS/Classics/210/sculpture/hermes_face.jp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upload.wikimedia.org/wikipedia/commons/3/38/Hades_Altemps_Inv8584.jp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8:00:53Z</dcterms:created>
  <dc:creator>Administrator</dc:creator>
  <dc:description/>
  <dc:language>en-US</dc:language>
  <cp:lastModifiedBy>Administrator</cp:lastModifiedBy>
  <dcterms:modified xsi:type="dcterms:W3CDTF">2010-12-17T18:12:11Z</dcterms:modified>
  <cp:revision>4</cp:revision>
  <dc:subject/>
  <dc:title>Olympic Gods</dc:title>
</cp:coreProperties>
</file>